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08E-B873-4141-8F29-19B36150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B70-BF29-42D3-A2C4-3325C40A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A610E-DF47-4FE7-9301-B21D16D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EAF52-C202-4FD8-8916-F541D88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7320A-D561-4546-9287-70C1E441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C4A5E-5B07-49A4-A80E-F9CC4AE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7CD0C-C474-4831-889F-CAEA8BB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7CF5E-A2FD-44D9-ADD1-3C58C90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4959A-6CBC-41B1-A6A0-0E715F9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2E256-E027-494E-AA84-4371CF83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C202D-77DB-47BE-B3B7-9B9613D1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E1CC7-65CE-449C-AAB1-935CE92C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A8C-42FC-4772-984C-F81AE64D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A9E17-8A74-402C-BB29-5161E45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55238-325D-46E5-B1E4-40BBDB0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20B15-7034-4A5B-8B19-124B7264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49BDD-3C78-430A-B38E-8631162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54920-9A43-496F-8D5F-476014C9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92785-F670-42A8-A405-F96E296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7D611-E407-40A7-B643-8240BDEF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18004-01F1-4141-A0BB-05CEE03D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D7265-BD1A-4F3B-9CBB-F0029C3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6DB5E-EA28-4A89-87DA-D7A169D6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B06-42D6-4280-AB5D-908AECC8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76BED-1014-4795-A088-EBA74776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B7317-524A-4C54-88B6-15A29420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9A4D8-C989-412B-B7EF-CF8B16C3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BBE31-341D-4D8A-86B9-DC6C1724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3EF63-3C16-4471-BD5A-BCF3EB2D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034E9-5F65-447B-8F97-98ABA021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52DEC-0F20-4CDC-9696-DF8F5F94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517B6-B7BE-4D2C-95D2-D102F3E3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42C34-BB45-4943-83EF-4653A2B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28EB8-F1FF-401A-8EC2-B734F6B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CE8E-C06A-4418-9B3E-BCA810D4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2F01B-1C66-4C70-9412-38194EAC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021CE-7644-4B00-A5EC-605A3834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FD0F2-893D-4DBB-BE67-C9618CED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EBB26-3EAE-4D66-8955-0C09DAD0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4439A-8F91-47C3-AB6F-15CCFC74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BDB3D-BE2C-4BC5-A698-A9BE47AD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5C8C5-2961-42D4-8611-E8F3C2E4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C42A3-C242-48FF-8CB4-59D24B1F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681BD-BC94-45AE-8FAE-839587CB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109DE-4118-4DDB-B52D-6ED2A43F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4572-6CDF-4B41-B984-942FC6C1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345C6-BD93-4BBA-BE27-0F2FA38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41F50-C8D6-44F9-A8B6-864CF3DA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2FC73-808F-48C7-82BF-952A2754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985A1-F3E6-446B-9BE8-E95EA0E7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C2B62-E439-44A9-A906-98B1942D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D37-71D0-44E7-8290-FDDA5FE8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9856-F8B2-4CB8-B8EC-ACF2C69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6FB2-1CF5-4CCA-97EC-5473A732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87A-EDF4-4D15-8CB5-949339D1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7B41-8893-4552-906D-A682DC5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524-AE26-477B-84D3-86F6337B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8BC1-0D5B-4337-99C1-9CBDC655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EAA4-26A4-4B56-9B39-2F1E4848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B84C-5BA4-4071-9B81-1CDC5A8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EE89-16D8-4E39-A327-74D39500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4A03-1097-4593-85E7-909F5458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F83D-E3FC-4787-A203-5CF6A40B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73FD-FA7E-4213-AA6F-33957FC7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76A8-29A2-4859-9FF9-567957C9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D421-A4EE-4B9B-8AF7-0B774F7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BFDF-02F2-416A-847C-0B01465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97B-03A2-4883-A6BB-DB6DDD7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D58A-027E-4BC0-B8D5-1659A386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A4E8-2FDF-4A3E-8690-1F49A74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82C9-3C3A-4754-90B3-A6FAD21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9353-F436-49B2-9BF5-D5EF080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08B0-D0C7-46C4-A919-5503E8C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997A-4F45-4F91-AD78-8DAFDDD4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D8CB-E82B-4D00-A0A5-19F9D4D3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1780-AFD6-4620-873D-34C2F966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F3A9-EF85-4898-805D-69722C2F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DDCB-5712-4BA5-B8FF-A3A09477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99E-5F85-4480-98A1-A670540F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6642-0EEF-43C1-A330-4B111A7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527C2-D9AB-49FD-A0C3-7FC31897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ACF7-CAE1-4B51-BA32-B94469B8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882D-7445-441E-8034-0DDCC42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66FF6-302A-4BB3-A1A0-2D442759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BFD3-A6A9-4381-8A79-B9CE39D4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BC53-36D6-4388-86A4-7C8DCD1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A9A9-1BC0-4B9D-9250-9656C810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C65E-6E78-4FB3-AAB3-ACD491F1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ACE8-E139-40CD-8865-ABF130AB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6E9-86EC-43AC-8A18-B2026D76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145F-5BE6-439E-982C-0F04365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7AF1-EDFB-40F1-AEAB-14E821C3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27E1-1E13-435A-A2DD-137CD600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7394-5F74-45DA-BFBE-CA442264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63C6-1C80-481E-B722-B12424E9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3E2F1-DACB-4F5A-9E13-FCD4E42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0F6E-BEA8-4524-A386-44A575C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1521-9B57-4EB0-8D4A-041B91C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50F67-E33D-4686-A34E-5EF68A83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478F-2032-42D6-B08C-C4F3FD98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843-D0D8-4729-A857-569F4A51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BBBC-0C8C-4318-BEA1-FCBA7C47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FE09F-7F33-4329-93CB-F364268F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BC246-77A7-4664-8501-F37E83E0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67CD-78A4-40C2-8444-7C09F7E2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8965D-3001-47FF-8785-69CF7D4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B16AA-86B6-4281-809E-3588A04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1750-0945-4C99-BE7B-B7DA4852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0909B-B61D-4163-B941-35965F5C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1A5F6-2703-4722-8A55-B259EF76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0246-F95A-4076-B2B5-5A53406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EF9-1B63-421D-8F95-B9CA3932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D7EE0-CC35-4DF9-9802-053E417A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4F9B8-50A8-431C-B53C-DCF58918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CCDF-A2DB-49DB-9180-513A4B4C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7652C-395C-4135-AF78-98E14EA9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1E446-D10A-41B9-BD2B-2F6DE4E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7945-E534-46E9-93F9-52A04C38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5E8D6-D13C-4278-9E59-071BBF8D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0F5E-7779-45D1-AC45-701EE05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5EE4E-92F1-4C57-9A32-AD768E0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008E8-64C6-4E70-9ECD-B6F0698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0C3-7555-459A-BA65-D13335D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48E9D-54B1-443A-8794-A3281D4E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37463-A348-4520-A09D-4492926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BC7A2-7CE2-4EC4-B1E1-34F6BC62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4CA7E-9327-49C1-BC03-E0B60D0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1E491-0AB4-4BC2-933E-01FDBE7E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C70DF-65EC-49A4-B8A6-8935A566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533DC-7AD8-4EF2-B3FC-CFEBAA46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2D93F-848D-48CF-8524-A3C1E956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AD071-4743-4AF6-9EF3-B5949D6C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F12F0-4012-4236-88AE-D4FB5A68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C2F-0AB8-4AA4-A48F-AE5698B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AE0E-CB1E-4236-847C-FBFA655B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D60E5-5B90-49CB-916A-DAE75CE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317FE-D556-42FF-9FE6-F953AE4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A3E5-C598-49C9-AB14-87C712F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6DE04-7829-4831-8A2E-F9FB5B0B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E3A3-4FE6-4539-A796-F0683ABB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D5213-82B8-4588-A717-007B7690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5B4B9-D68C-4F83-A301-643E36C0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ADF07-D450-4696-B740-7A16D7AA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59279-0004-4841-95A2-1FD359ED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85DD-D54C-44BD-A5A5-16D6EB524FD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895D-63AB-4566-85CA-C63BFE949C1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9E31-FB61-41F5-A468-9B3199617B4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0682-0D6F-45AB-8789-39389A3B3D7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1BE8-1449-4C96-A1F5-07E17082896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4027-B024-4516-B52F-7CFA53A1589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F68-5F3F-4037-AE94-A541056C4D2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C6DF-4D7A-4963-9517-354733B7A78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8840-4CE0-4490-9BC2-AB4BE0979F1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F6CC-9836-47A3-8F81-E04C284EF20C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B60-930E-4831-A482-F66F2F3E91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D19-9AFA-4C4A-A595-5DC68B42B12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Investigation of Tribological and Mechanical properties of Metal Bearings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914400" y="1523880"/>
          <a:ext cx="6858000" cy="1177920"/>
        </p:xfrm>
        <a:graphic>
          <a:graphicData uri="http://schemas.openxmlformats.org/drawingml/2006/table">
            <a:tbl>
              <a:tblPr/>
              <a:tblGrid>
                <a:gridCol w="1170000"/>
                <a:gridCol w="708120"/>
                <a:gridCol w="1224000"/>
                <a:gridCol w="1011240"/>
                <a:gridCol w="866520"/>
                <a:gridCol w="938160"/>
                <a:gridCol w="93996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E 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33520" y="3581280"/>
          <a:ext cx="7391160" cy="2527560"/>
        </p:xfrm>
        <a:graphic>
          <a:graphicData uri="http://schemas.openxmlformats.org/drawingml/2006/table">
            <a:tbl>
              <a:tblPr/>
              <a:tblGrid>
                <a:gridCol w="1066680"/>
                <a:gridCol w="557280"/>
                <a:gridCol w="560160"/>
                <a:gridCol w="560520"/>
                <a:gridCol w="639720"/>
                <a:gridCol w="561960"/>
                <a:gridCol w="631800"/>
                <a:gridCol w="631800"/>
                <a:gridCol w="561960"/>
                <a:gridCol w="561960"/>
                <a:gridCol w="567000"/>
                <a:gridCol w="49032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Sn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Zn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uM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PbCu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Rectangle 1"/>
          <p:cNvSpPr/>
          <p:nvPr/>
        </p:nvSpPr>
        <p:spPr>
          <a:xfrm>
            <a:off x="276120" y="16200"/>
            <a:ext cx="72216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1. Chemical composition of Journal Materials (Wt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2. Chemical composition of Bearing Materials (Wt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Operating cond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aring speci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ner diameter – 10+0.0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dth 10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uter diameter 1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losses measured u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ubricated conditions of 20 N l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00 rpm 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0.785 m/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interval of 30 min(7065 m sliding distanc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E 90 Gear o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pparatus us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dial journal bearing wear test r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crostructures of wear surfaces -optical and scanning electron microsco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ŞA type tensile test ri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SADT HARTIP-3000 ty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TIP 3000 is an advanced hand-held digital metal hardness tester ,high   accuracy, wide measuring range  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sily operat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of all metals -large structure/assembled componen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4" descr="F:\tribology\LLLLLLLOOOOOOOOKKKKKKKEEEEEEE\993.jpg"/>
          <p:cNvPicPr/>
          <p:nvPr/>
        </p:nvPicPr>
        <p:blipFill>
          <a:blip r:embed="rId1"/>
          <a:stretch/>
        </p:blipFill>
        <p:spPr>
          <a:xfrm>
            <a:off x="4952880" y="3886200"/>
            <a:ext cx="3981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1527120"/>
            <a:ext cx="8504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suring principle- the quotient of th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act body's rebound and impact velocity, multiplied by 1000."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ngsten Carbide test tip is propelled by spring force against the test surf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ermanent magnet is contained within the impact bo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it passes through the coil on impact de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uces an electric voltage which is proportional to the velocity of the impact bod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Georgia"/>
              </a:rPr>
              <a:t>KEY FEA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st in any dir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accu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ght we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metallic materi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impact devices interchange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nu ope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ta management softwa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y to standard ASTM A95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F:\tribology\LLLLLLLOOOOOOOOKKKKKKKEEEEEEE\productlist.asp_files\Hartip3000.jpg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304812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Comparator.2. Rigid bar.3. Load contact point (rolling bearing).4. Journal sample.5. Journal bearing samples.6. Plate bar.7. Motor.8. Loa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Picture 2" descr="C:\Documents and Settings\Administrator\Desktop\fig 1.jpg"/>
          <p:cNvPicPr/>
          <p:nvPr/>
        </p:nvPicPr>
        <p:blipFill>
          <a:blip r:embed="rId1"/>
          <a:stretch/>
        </p:blipFill>
        <p:spPr>
          <a:xfrm>
            <a:off x="457200" y="3048120"/>
            <a:ext cx="7696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ystem formed b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ight applied by rigid b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el bar connected to the bearing from a d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nsile spring connected opposite side to comparator k=0.04N/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esult and discus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b0f0"/>
                </a:solidFill>
                <a:latin typeface="Georgia"/>
              </a:rPr>
              <a:t>SURFACE ROUGHNESS PROPER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lues of CuSn10 and CuZn30 decre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other bearings increased after wear t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Documents and Settings\Administrator\Desktop\UntitleZZZd.png"/>
          <p:cNvPicPr/>
          <p:nvPr/>
        </p:nvPicPr>
        <p:blipFill>
          <a:blip r:embed="rId1"/>
          <a:stretch/>
        </p:blipFill>
        <p:spPr>
          <a:xfrm>
            <a:off x="228600" y="2286000"/>
            <a:ext cx="838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Wear 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2" descr="D:\TRIBOLOGYYYYYYYYYY\New Folder\rscale\fig 2 RESCALE.png"/>
          <p:cNvPicPr/>
          <p:nvPr/>
        </p:nvPicPr>
        <p:blipFill>
          <a:blip r:embed="rId1"/>
          <a:stretch/>
        </p:blipFill>
        <p:spPr>
          <a:xfrm>
            <a:off x="380880" y="1523880"/>
            <a:ext cx="7086600" cy="41036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3"/>
          <p:cNvSpPr/>
          <p:nvPr/>
        </p:nvSpPr>
        <p:spPr>
          <a:xfrm>
            <a:off x="209880" y="28440"/>
            <a:ext cx="83174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2. Friction coefficient-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           </a:t>
            </a: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Introductio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, Aluminium and Lead-common journal bearing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nze and Brass- Copper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amacs - Zinc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uralumines - Aluminium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te metals- Tin lead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ent study- Tribological and mechanical properties of these journal bearings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D:\TRIBOLOGYYYYYYYYYY\New Folder\rscale\fig 3.png"/>
          <p:cNvPicPr/>
          <p:nvPr/>
        </p:nvPicPr>
        <p:blipFill>
          <a:blip r:embed="rId1"/>
          <a:stretch/>
        </p:blipFill>
        <p:spPr>
          <a:xfrm>
            <a:off x="380880" y="457200"/>
            <a:ext cx="4924440" cy="2857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D:\TRIBOLOGYYYYYYYYYY\New Folder\rscale\fig 4.png"/>
          <p:cNvPicPr/>
          <p:nvPr/>
        </p:nvPicPr>
        <p:blipFill>
          <a:blip r:embed="rId2"/>
          <a:stretch/>
        </p:blipFill>
        <p:spPr>
          <a:xfrm>
            <a:off x="457200" y="3733920"/>
            <a:ext cx="5133960" cy="290484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5"/>
          <p:cNvSpPr/>
          <p:nvPr/>
        </p:nvSpPr>
        <p:spPr>
          <a:xfrm>
            <a:off x="0" y="167760"/>
            <a:ext cx="8991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3. Temperature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4. Wear losses bearing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D:\TRIBOLOGYYYYYYYYYY\New Folder\rscale\fig 5.png"/>
          <p:cNvPicPr/>
          <p:nvPr/>
        </p:nvPicPr>
        <p:blipFill>
          <a:blip r:embed="rId1"/>
          <a:stretch/>
        </p:blipFill>
        <p:spPr>
          <a:xfrm>
            <a:off x="1219320" y="457200"/>
            <a:ext cx="4943520" cy="29336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1143000" y="3954600"/>
            <a:ext cx="5257800" cy="29034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0" y="16884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5. Wear losses journal–time variation of metal bea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6. Comparison of wear rates of bear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echanical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echanical properties Bronze, Brass and Duralumin bearing materials occurred GREATER than Zamac and Tin–lead based white metal bearing materi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rdness of all specimens 100 HB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Picture 2" descr="D:\TRIBOLOGYYYYYYYYYY\New Folder\Ussssssssntitled.png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icrostructure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mens examined under optical and scanning electron microsco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D:\TRIBOLOGYYYYYYYYYY\New Folder\fig 7.png"/>
          <p:cNvPicPr/>
          <p:nvPr/>
        </p:nvPicPr>
        <p:blipFill>
          <a:blip r:embed="rId1"/>
          <a:stretch/>
        </p:blipFill>
        <p:spPr>
          <a:xfrm>
            <a:off x="380880" y="2514600"/>
            <a:ext cx="8325000" cy="28954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0" y="29520"/>
            <a:ext cx="8991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7. Microstructure of wear surfaces of metal bea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(a) CuSn10, (b) CuZn30,(c) ZnAl, (d) AlCuMg2 and (e) SnPbCuSb (×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8. SEM microstructure of wear surface of metal bearings: (a) CuSn10, (b) CuZn30, (c) ZnAl, (d) AlCuMg2 and (e) SnPbCuSb (× 1000</a:t>
            </a:r>
            <a:r>
              <a:rPr b="0" lang="en-US" sz="1800" spc="-1" strike="noStrike">
                <a:solidFill>
                  <a:srgbClr val="00b0f0"/>
                </a:solidFill>
                <a:latin typeface="Bodoni MT Black"/>
              </a:rPr>
              <a:t>).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Content Placeholder 3" descr="D:\TRIBOLOGYYYYYYYYYY\fig 8.png"/>
          <p:cNvPicPr/>
          <p:nvPr/>
        </p:nvPicPr>
        <p:blipFill>
          <a:blip r:embed="rId1"/>
          <a:stretch/>
        </p:blipFill>
        <p:spPr>
          <a:xfrm>
            <a:off x="533520" y="1447920"/>
            <a:ext cx="746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9. SEM microstructure of tensile fracture surface of metal bearing materials: (a) CuSn10, (b) CuZn30, (c) ZnAl, (d) AlCuMg2 and (e) SnPbCuSb (× 500).</a:t>
            </a:r>
            <a:br>
              <a:rPr sz="3000"/>
            </a:b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D:\TRIBOLOGYYYYYYYYYY\fig 9.png"/>
          <p:cNvPicPr/>
          <p:nvPr/>
        </p:nvPicPr>
        <p:blipFill>
          <a:blip r:embed="rId1"/>
          <a:stretch/>
        </p:blipFill>
        <p:spPr>
          <a:xfrm>
            <a:off x="457200" y="1371600"/>
            <a:ext cx="74674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Conclu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t wear values of surface roughness decreased in CuSn10 and CuZn30 and increased in other bearing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highest friction coefficient and bearing temperature occurred in CuSn10 and CuZn30 bear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est friction coefficient and bearing weight loss occurred in other ZnAl, AlCuMg2 and SnPbCuSb bearing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highest journal weight loss occurred at CuZn30 and AlCuMg2 bea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highest bearing wear rate occurred in CuSn10and CuZn30 bearing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owest bearing wear rate occurred in ZnAl bearing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mechanical properties of CuSn10, CuZn30 and AlCuMg2 bearing materials were better than those of ZnAl, and SnPbCuSb bearing material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Reference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s of lubricants on the properties of copper-tin powders and compacts, Advances in P/M, Proc. Of PM conf., APMI, N. Jersey, pp 303–3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sign of radial journal bearing wear test rig, Conference of Mach. Mater. and Techno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delines for designing zinc alloy bearings— a technical manual, Soc. Auto Eng., Paper no: 88028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story of Tribology (London: Profes. Eng. Pub.), p. 76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vestigation of Tribological properties Zn–Al based journal bearings, Master thesis, Karadeniz Technical University, Trabzon, Turkey (in Turkish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Trib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ience and technology of interacting surfaces in relative motion and of related sub and practi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als wit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y of lubr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prevention of surfaces having relative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main constituent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es service life of machine el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Historical backgrou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ier Wood Iron and Sk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ter Brass and Bron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urrently Aluminium and Zinc based materi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ical improvements Self-lubricated sintered bearings –continuous lubrication impossi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fore its essential bearing materials be chosen depending upon area of appl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most important property that journal bearings materials must pos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Types of journal bearing materials and their properties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thermal and Electrical conductivity, self Lubricating property, Good corrosion and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based tin bronze- High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and wear properties can be improved by adding tin-Tin Bronze (90% Cu 10% S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n Bronze- Corrosive condition, High temperature and loa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Zinc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inc based alloys -world war II as compensate for copper deficiency in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ibological and mechanical properties improv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t treat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ition of Mn,Si,and C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 cost, Good Physical Tribological and mechanical properties and wear resis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luminium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where corrosion is probl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of Si added Al is greater than Al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od Castability , Thermal conductivity and welda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Lead and tin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ti friction proper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duced by casting and spray de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metallic pha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 seizure and Good wear resista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Preparation of Experimental Material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9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ournal Bearing Materi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Sn10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nz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Zn30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nAl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AMA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CuMg2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alum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PbCuSb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 met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ft(journal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E 105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03:05Z</dcterms:created>
  <dc:creator>Mechanical Engineering Project</dc:creator>
  <dc:description/>
  <dc:language>en-US</dc:language>
  <cp:lastModifiedBy>Brigade</cp:lastModifiedBy>
  <dcterms:modified xsi:type="dcterms:W3CDTF">2011-08-09T04:45:54Z</dcterms:modified>
  <cp:revision>0</cp:revision>
  <dc:subject/>
  <dc:title>Mechanical Engineering Project</dc:title>
</cp:coreProperties>
</file>